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93C-E08B-489C-8169-7823CCB1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705-99CB-4F9C-A092-4461278C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D6B-3992-433C-82E7-D6B67CA7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EE8-5CB6-42BD-B76D-B570A8AC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08A-8974-475A-8B9D-F14F3C6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CC4-6FFF-456A-B523-7AAFA2C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27F-D58E-49CF-ABEB-2200BBB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AF7-D59A-4E4C-900E-30B226EA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D62-1FA3-47FC-A71D-0ABE7F69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9A8-2931-4BEE-A31A-4C5D167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FA2-2A3D-4317-BD1C-3D126ED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AD9-0A87-49E9-9B24-CFA9F89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B170-241A-45AE-AFD1-9E09A67F1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47800"/>
            <a:ext cx="2133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ΟΙΚΟΓΕΝΕΙΑΚΟ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ΠΡΟΓΡΑΜΜΑΤΙΣΜ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847800"/>
            <a:ext cx="21337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ΨΥΧΟΠΡΟΦΥΛΑΚΤΙΚ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ΤΗΣ ΕΓΚΥ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847800"/>
            <a:ext cx="21337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ΗΤΡΙΚΟΥ ΘΗΑΣΜΟ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ΥΠΟΓΟΝΙΜΟΤΗΤ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ΚΑΙ ΑΠΟΒΟΛ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880" y="23796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ΤΟΜΕΑΣ ΜΗΤΕ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99080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78040" y="367812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168800"/>
            <a:ext cx="1927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ΜΑΙΑΣ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ΥΝΑΙΚΟΛΟΓ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-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960" y="618156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ΟΘΗΚ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3040" y="3773520"/>
            <a:ext cx="1644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ΜΜΑΤΕ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78040" y="3373560"/>
            <a:ext cx="1981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ΠΟΔΥΤΗΡ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56080" y="617220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ΟΔΥΤΗΡΙΑ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ΙΑΤΡ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457280"/>
            <a:ext cx="0" cy="454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847800"/>
            <a:ext cx="2286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ΕΜΒΡΥΟΜΗΤΡΙΚΗΣ ΚΑ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ΠΡΟΓΕΝΝΗΤΙΚΟΥ ΕΛΕΓΧ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9908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KOIN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+1 A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67660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ΙΘΟΥΣΑ ΑΣΚΗΣΕ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6766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ΑΠΟΘΗΚΕ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ΤΙΚΟΣ ΧΩΡ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68760" y="367812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OU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083200"/>
            <a:ext cx="1927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ΚΟΙΝΩΝΙΚ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ΛΕΙΤΟΥΡΓΟΥ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ΠΙΣΚΕΠΤΗ ΥΓ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-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168800"/>
            <a:ext cx="1927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ΜΑΙΑΣ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ΥΝΑΙΚΟΛΟΓ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-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6720" y="19908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62880" y="199080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KOIN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+1 A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3040" y="4452840"/>
            <a:ext cx="1644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ΙΑΤΡ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0-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3040" y="5175360"/>
            <a:ext cx="1644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ΥΠΕΡΗΧ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0-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2400" y="5978520"/>
            <a:ext cx="694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32840" y="1544760"/>
            <a:ext cx="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2840" y="2463840"/>
            <a:ext cx="0" cy="35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16520" y="1622520"/>
            <a:ext cx="0" cy="437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4520" y="2211480"/>
            <a:ext cx="78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83240" y="453384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2400" y="455616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2400" y="54529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7160" y="59785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57640" y="59785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66960" y="1467000"/>
            <a:ext cx="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66960" y="245268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6960" y="314172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970760" y="40068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970760" y="468648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970760" y="537696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08:20Z</dcterms:created>
  <dc:creator>Μανόλης Βελεγράκης</dc:creator>
  <dc:description/>
  <dc:language>en-US</dc:language>
  <cp:lastModifiedBy>Μανόλης Βελεγράκης</cp:lastModifiedBy>
  <dcterms:modified xsi:type="dcterms:W3CDTF">2003-09-30T09:33:02Z</dcterms:modified>
  <cp:revision>11</cp:revision>
  <dc:subject/>
  <dc:title>Χωρίς τίτλο διαφάνειας</dc:title>
</cp:coreProperties>
</file>