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CB7-D483-444C-984E-3EFFD9CD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DD4-FE84-472F-AC08-712E14DC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205-63BC-4855-BB69-4A0E3118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8BE-D222-4123-80A8-3C332423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BA2-09FF-4C2F-B071-256673D1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C8A-212F-4017-938D-FA27E956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66C-2F69-422D-8142-8241D316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0F6-8213-4A9D-AE4C-7DEF99C8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EA9-1472-4DB0-9EFB-AD4C91DB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012-C672-45D1-B77A-84AB041C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685-9438-4C41-876F-94227C95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AAF-CA45-4399-AF06-BFD218A7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4952-3A12-4371-98F5-63C4E9274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95280"/>
            <a:ext cx="21337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ΜΟΝΑΔΑ ΚΛΙΝΙΚΗ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ΓΕΝΕΤΙΚ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1295280"/>
            <a:ext cx="21337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ΜΟΝΑΔ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ΚΥΤΑΡΟΓΕΝΕΤΙΚ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1295280"/>
            <a:ext cx="2133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ΜΟΝΑΔ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ΜΟΡΙΑΚΗΣ ΓΕΝΕΤΙΚ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78880" y="45720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ΙΝΣΤΙΤΟΥΤΟ ΓΕΝΕΤΙΚ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29718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ΜΜΑΤΕΙ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3886200"/>
            <a:ext cx="144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 ΙΑΤΡ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8862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 ΙΑΤΡ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144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ΡΓΑΣΤΗ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800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ΡΓΑΣΤΗ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8862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ΓΡΑΦΕΙΟ ΙΑΤΡ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586728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ΠΟΔΥΤΗΡΙΑ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C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ΙΑΤΡ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057400" y="3200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5562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82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296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96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8:08:20Z</dcterms:created>
  <dc:creator>Μανόλης Βελεγράκης</dc:creator>
  <dc:description/>
  <dc:language>en-US</dc:language>
  <cp:lastModifiedBy>Μανόλης Βελεγράκης</cp:lastModifiedBy>
  <dcterms:modified xsi:type="dcterms:W3CDTF">2003-09-30T09:34:32Z</dcterms:modified>
  <cp:revision>3</cp:revision>
  <dc:subject/>
  <dc:title>Χωρίς τίτλο διαφάνειας</dc:title>
</cp:coreProperties>
</file>