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563-0741-424D-9160-5A2B0FDB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537-39B7-46E5-BF5B-020B7939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836-8918-4B03-BC91-29C69CF6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400-1ED9-47A1-B80D-A631A876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96A-3223-4BA7-8FCF-638CB95F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852-D56F-49BB-A284-0DF4860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12F-F031-4ECA-AB2D-FB1E240A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D44-FBDC-4C9E-80EC-8B8D1A8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D88-0948-424B-8C46-3D64B0C5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AB4-11D9-4F3B-853D-82FCF15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59E-7673-461B-8EA9-7831B1B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F75-3881-4A3D-AFBB-DB541F9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l-G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l-G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l-G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C1E73A19-8489-4746-B740-B9BAE2841A45}" type="slidenum"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851040"/>
            <a:ext cx="1447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ΝΑΠΤΥΞΙΑΚ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ΠΑΙΔΙΑΤΡ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91640" y="31428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ΟΜΕΑΣ ΚΟΙΝΩΝΙΚΗΣ ΙΑΤΡΙΚ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1600" y="2035080"/>
            <a:ext cx="135252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ΟΔΟΧΗ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ΑΜΟΝ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24120" y="2035080"/>
            <a:ext cx="106704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KOIN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+1 A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7920" y="3137040"/>
            <a:ext cx="2120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ΜΜΑΤΕΙΑ / ΑΡΧ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8880" y="6521400"/>
            <a:ext cx="115596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ΠΟΔΥΤΗΡ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ΙΑΤΡ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8880" y="5540400"/>
            <a:ext cx="1584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ΙΘΟΥΣ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ΦΥΣΙΚΟΘΕΡΑΠ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0-3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19200" y="860400"/>
            <a:ext cx="16797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ΦΙΣΙΚΟΘΕΡΑΠ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65720" y="860400"/>
            <a:ext cx="16254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ΡΓΟΘΕΡΑΠ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847800"/>
            <a:ext cx="13208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ΠΑΙΔΟΝΕΥ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ΡΟΛΟΓΙΚ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12160" y="855720"/>
            <a:ext cx="1550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ΠΑΙΔΟΨΥ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ΧΙΑΤΡ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780480" y="868320"/>
            <a:ext cx="1660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ΛΟΓΟΘΕΡΑΠ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44080" y="300672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531520" y="863640"/>
            <a:ext cx="14605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ΚΟΟΛΟΓΙΚ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22360" y="855720"/>
            <a:ext cx="131436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ΚΟΙΝΩΝΙΚ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ΥΠΗΡΕΣ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ΠΙΣΚΕΠΤΡ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ΥΓΕΙΑ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595480" y="843120"/>
            <a:ext cx="12384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ΓΡΑΦΕΙ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ΙΔ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ΠΑΙΔΑΓΩΓΟ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85880" y="2124000"/>
            <a:ext cx="1028520" cy="50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78040" y="160956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900320" y="16225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890280" y="2025720"/>
            <a:ext cx="1460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ΟΔΟΧΗ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ΑΜΟΝ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77520" y="2025720"/>
            <a:ext cx="1460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ΟΔΟΧΗ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ΑΜΟΝ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88400" y="1946160"/>
            <a:ext cx="3225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144080" y="3870360"/>
            <a:ext cx="12193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ΧΩΡ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ΘΕΡΑΠ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271160" y="4721400"/>
            <a:ext cx="990720" cy="50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754000" y="3102120"/>
            <a:ext cx="12189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766600" y="3952800"/>
            <a:ext cx="12193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ΚΟΟΛΟΓΙΚ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ΡΓ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01280" y="1488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27040" y="1488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877320" y="2771640"/>
            <a:ext cx="0" cy="22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77320" y="3305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77320" y="42195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77320" y="4981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544480" y="2771640"/>
            <a:ext cx="0" cy="148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544480" y="343836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44200" y="362916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44480" y="425772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382560" y="372420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747760" y="2790720"/>
            <a:ext cx="10861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42200" y="3787920"/>
            <a:ext cx="1127160" cy="67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ΟΔΟΧΗ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ΑΜΟΝ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85320" y="4759200"/>
            <a:ext cx="1250640" cy="3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ΡΟΘΑΛΑΜΟ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58880" y="3902040"/>
            <a:ext cx="18702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 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56800" y="5610240"/>
            <a:ext cx="1085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20000" y="1467000"/>
            <a:ext cx="0" cy="23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810640" y="44578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20040" y="5153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277200" y="5153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70800" y="1816200"/>
            <a:ext cx="1127160" cy="67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ΥΠΟΔΟΧΗ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ΝΑΜΟΝ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89880" y="2657520"/>
            <a:ext cx="1085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W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10440" y="14572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01080" y="248616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11920" y="5610240"/>
            <a:ext cx="108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8880" y="4673520"/>
            <a:ext cx="182268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ΧΩΡΟΣ ΠΕΡΠΟΙΗ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ΑΙΔΙΟΥ (ΠΑΓΚΟ)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ΑΙΔΙΚΟ 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40440" y="4121280"/>
            <a:ext cx="189864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 ΓΡΑΦ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4816440"/>
            <a:ext cx="182268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ΧΩΡΟΣ ΠΕΡΠΟΙΗ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ΑΙΔΙΟΥ (ΠΑΓΚΟ)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ΑΙΔΙΚΟ 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2800" y="5626080"/>
            <a:ext cx="1584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ΙΘΟΥΣ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ΦΥΣΙΚΟΘΕΡΑΠΕΙΑ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0-3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120" y="3092400"/>
            <a:ext cx="167976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ΧΩΡΟΣ ΠΕΡΠΟΙΗ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ΑΙΔΙΟΥ (ΠΑΓΚΟ)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ΠΑΙΔΙΚΟ 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6280" y="3968640"/>
            <a:ext cx="164160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ΞΕΤΑΣΤΗΡΙ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ΒΡΕΦΩΝ &amp; ΝΗΠΙ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6120" y="4844880"/>
            <a:ext cx="103176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ΙΑΤΡ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0 -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28960" y="1467000"/>
            <a:ext cx="0" cy="534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1467000"/>
            <a:ext cx="0" cy="53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5800" y="146700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95840" y="235260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8040" y="235260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47880" y="33908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7880" y="42670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47880" y="51246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48040" y="33908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9200" y="3600360"/>
            <a:ext cx="0" cy="319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19200" y="4162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200" y="4971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9200" y="5886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028600" y="679140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05120" y="679140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390920"/>
            <a:ext cx="19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5095800"/>
            <a:ext cx="19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952960"/>
            <a:ext cx="19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9:51:07Z</dcterms:created>
  <dc:creator>Μανόλης Βελεγράκης</dc:creator>
  <dc:description/>
  <dc:language>en-US</dc:language>
  <cp:lastModifiedBy>Μανόλης Βελεγράκης</cp:lastModifiedBy>
  <dcterms:modified xsi:type="dcterms:W3CDTF">2003-09-30T12:08:13Z</dcterms:modified>
  <cp:revision>22</cp:revision>
  <dc:subject/>
  <dc:title>Χωρίς τίτλο διαφάνειας</dc:title>
</cp:coreProperties>
</file>